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6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30.jpeg" ContentType="image/jpeg"/>
  <Override PartName="/ppt/media/image24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DEE-C759-4265-9E72-100B1DD3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E33-8A33-4421-9D35-31130E0F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BBB-98A5-4B6F-810A-8E56F3685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36B-BAF7-483C-A58F-57933BD4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2C8F-230C-4D2F-9292-43B0524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568A-004C-4ACD-9360-8FE838D2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3F2-8355-4D93-90FA-9C7A6488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EC4E-63A3-4367-B3D2-2BDE4AC6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EC59-615B-4D75-9301-5667D88A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6A19-D6B0-4DB0-9FC4-851EB372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FEE8-454E-4682-AA10-863FD61B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823-8B00-4D2E-8E57-5F6EE3FA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BF02-4065-4064-95CC-4A5EF2D0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E22E-D8E8-44C9-B20F-F9BE8C5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B03F-2E22-40F3-B223-92829127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E79C-4BDC-435D-8F63-FB738FC6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EC3A-9824-4B72-87E1-615E0615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F6490-DF7A-4029-AE14-355CFFBD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19427-36FD-4CC8-AF31-1AFC2C36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09CB-C272-4496-91E7-0C92E03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A828A-73CC-4301-AFE7-C6DF21CC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8DE32-FBE5-4512-B025-9F07909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7E9-4F2B-4B6C-8801-79EB8DEF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022B3-7B2A-452D-BC3A-4836072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27097-C909-4F2D-BDF4-4ABC7F21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0ADA6-0A06-453D-B8BF-14B0F41E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1CAE-B474-4EF9-9A93-549912F3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73532-3691-47F1-9290-579E5ED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D914-BCB0-41A0-9C1A-2179001D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0588-7BAF-42C1-A25F-CE6185B6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59B7-2723-4E6B-BAB0-DD4B6D45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45A25-7724-4BAB-AEC4-024CCC97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C824-D32B-4C00-A1BF-29652DDE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EECE-7B64-4E6C-B444-5463765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1C47D-8A65-4E9D-96D6-D26DE456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13E0-FAEE-444D-94E4-7266BB2C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79502-D67F-4164-8AC6-B42E27D7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8741-E647-413F-8C8A-B1DAE63A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B17E2-5A32-4652-9890-F000515D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6526-BE25-4EEA-80A0-2DA86C4D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E5B9-11E0-49CC-8287-34C89E5A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F3E7E-E6E9-4016-8E46-709F2AAA0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8FA3-9C6D-465B-AA44-91B49BF7B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018-9D90-4F84-B6E7-BD5E7A05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6E4-5B0A-4DF9-8A28-8FDEC23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697C-BBEE-43FC-8D66-610FD18C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589-314C-4B1E-BF90-AEFD6BDF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FCA-0FD7-4600-A46B-0832EBA9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0ABA-7DC1-4819-8E04-7BDC44C3E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0B59-EA52-47CB-951F-E70B5752D49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6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3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E2C6-0988-44FF-AEB5-C9B4797983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07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F406-6B63-4F08-87A7-A6A0E89007A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58560" y="326520"/>
            <a:ext cx="788508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763640" y="4287960"/>
            <a:ext cx="7156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Ав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матическое план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Урок. Итоговое занят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с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есур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oblcit"/>
          <p:cNvPicPr/>
          <p:nvPr/>
        </p:nvPicPr>
        <p:blipFill>
          <a:blip r:embed="rId1"/>
          <a:stretch/>
        </p:blipFill>
        <p:spPr>
          <a:xfrm>
            <a:off x="250920" y="326880"/>
            <a:ext cx="1344600" cy="13446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1"/>
          <p:cNvSpPr/>
          <p:nvPr/>
        </p:nvSpPr>
        <p:spPr>
          <a:xfrm>
            <a:off x="537840" y="3297240"/>
            <a:ext cx="92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Изобразительное искусство. 7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Object 7" descr=""/>
          <p:cNvPicPr/>
          <p:nvPr/>
        </p:nvPicPr>
        <p:blipFill>
          <a:blip r:embed="rId1"/>
          <a:stretch/>
        </p:blipFill>
        <p:spPr>
          <a:xfrm>
            <a:off x="2881440" y="603360"/>
            <a:ext cx="3381120" cy="485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2" descr="bs-aaw-TomPerkinson-KatsinaWithButterfly"/>
          <p:cNvPicPr/>
          <p:nvPr/>
        </p:nvPicPr>
        <p:blipFill>
          <a:blip r:embed="rId2"/>
          <a:stretch/>
        </p:blipFill>
        <p:spPr>
          <a:xfrm>
            <a:off x="5148360" y="0"/>
            <a:ext cx="399564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7"/>
          <p:cNvSpPr/>
          <p:nvPr/>
        </p:nvSpPr>
        <p:spPr>
          <a:xfrm>
            <a:off x="0" y="260280"/>
            <a:ext cx="5076720" cy="87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Все жанр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искусств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хороши, кром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            </a:t>
            </a: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скучного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bat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9900"/>
                </a:solidFill>
                <a:latin typeface="Arbat"/>
              </a:rPr>
              <a:t>но скука - не жанр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720000"/>
                </a:solidFill>
                <a:latin typeface="Arbat"/>
              </a:rPr>
              <a:t>               </a:t>
            </a:r>
            <a:r>
              <a:rPr b="0" lang="ru-RU" sz="3600" spc="-1" strike="noStrike">
                <a:solidFill>
                  <a:srgbClr val="ffcc00"/>
                </a:solidFill>
                <a:latin typeface="Arbat"/>
              </a:rPr>
              <a:t>Воль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72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portrait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), изображение человека или группы людей; в изобразительном искусстве один из жанров, в котором воссоздается человеческая индивидуальнос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Picture 7" descr="1"/>
          <p:cNvPicPr/>
          <p:nvPr/>
        </p:nvPicPr>
        <p:blipFill>
          <a:blip r:embed="rId1"/>
          <a:stretch/>
        </p:blipFill>
        <p:spPr>
          <a:xfrm>
            <a:off x="4788000" y="1628640"/>
            <a:ext cx="40719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33920" y="2599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Пейза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2004480"/>
            <a:ext cx="433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ранц. pays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вид, изображение какой-либо местности; в живописи и графике жанр, в котором основной предмет изображения — природа. Часто изображаются виды городов или архитектурных комплексов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архитектурный пейзаж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ведут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, морские виды 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марина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5" name="Picture 7" descr="1"/>
          <p:cNvPicPr/>
          <p:nvPr/>
        </p:nvPicPr>
        <p:blipFill>
          <a:blip r:embed="rId1"/>
          <a:stretch/>
        </p:blipFill>
        <p:spPr>
          <a:xfrm>
            <a:off x="5076720" y="1628640"/>
            <a:ext cx="3678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148000" y="27432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Comic Sans MS"/>
              </a:rPr>
              <a:t>Натюрморт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537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(франц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Monotype Corsiva"/>
              </a:rPr>
              <a:t>nature morte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, букв. — мертвая природа), жанр изобразительного искусства (главным образом станковой живописи), посвященный изображению неодушевленных предметов (утварь, плоды, дичь, букеты цветов, атрибуты какой-либо деятельности и т. д.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7" descr="1"/>
          <p:cNvPicPr/>
          <p:nvPr/>
        </p:nvPicPr>
        <p:blipFill>
          <a:blip r:embed="rId1"/>
          <a:stretch/>
        </p:blipFill>
        <p:spPr>
          <a:xfrm>
            <a:off x="5292720" y="1628640"/>
            <a:ext cx="35434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20000"/>
                </a:solidFill>
                <a:latin typeface="Monotype Corsiva"/>
              </a:rPr>
              <a:t>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Скульп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 от лат.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sculp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высекаю),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ид изобразительного искусства, произведения которого имеют объемную, трехмерную форму и выполняются из твердых или пластических материалов. Скульптура изображает главным образом человека, реже животны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    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Художественные  средства скульптур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строение объемной формы, пластическая моделировка (лепка), разработка силуэта, фактуры, в некоторых случаях также цвета. Различаются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руглая скульптура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статуя, группа, статуэтка, бюст), осматриваемая с разных сторон, и</a:t>
            </a:r>
            <a:r>
              <a:rPr b="0" lang="ru-RU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рельеф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изображение располагается на плоскости фон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   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Рельеф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900000" y="57340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Стату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11" descr="1"/>
          <p:cNvPicPr/>
          <p:nvPr/>
        </p:nvPicPr>
        <p:blipFill>
          <a:blip r:embed="rId1"/>
          <a:stretch/>
        </p:blipFill>
        <p:spPr>
          <a:xfrm>
            <a:off x="539640" y="519120"/>
            <a:ext cx="3867120" cy="5214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1"/>
          <p:cNvPicPr/>
          <p:nvPr/>
        </p:nvPicPr>
        <p:blipFill>
          <a:blip r:embed="rId2"/>
          <a:stretch/>
        </p:blipFill>
        <p:spPr>
          <a:xfrm>
            <a:off x="5148360" y="1341360"/>
            <a:ext cx="34700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Архитектур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(от греч.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architekthon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строитель),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скусство проектировать и строить здания и др. сооружения , создающие среду, необходимую людям для их жизни и деятельности, в соответствии с назначением общества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3600" spc="-1" strike="noStrike">
                <a:solidFill>
                  <a:srgbClr val="ffcc00"/>
                </a:solidFill>
                <a:latin typeface="Monotype Corsiva"/>
              </a:rPr>
              <a:t>Выразительные средства архитектуры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— композиция, тектоника, масштаб, пропорции, ритм, пластика объемов, фактура и цвет материалов.  В архитектуре взаимосвязаны функциональные, технические, эстетические начала (польза, прочность, красота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Храм Василия Блаженного в Москв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5003640" y="4365720"/>
            <a:ext cx="41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Портик Нов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Эрмитажа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кт–Петербург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12" descr="1"/>
          <p:cNvPicPr/>
          <p:nvPr/>
        </p:nvPicPr>
        <p:blipFill>
          <a:blip r:embed="rId1"/>
          <a:stretch/>
        </p:blipFill>
        <p:spPr>
          <a:xfrm>
            <a:off x="395280" y="1916280"/>
            <a:ext cx="4027320" cy="4484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1"/>
          <p:cNvPicPr/>
          <p:nvPr/>
        </p:nvPicPr>
        <p:blipFill>
          <a:blip r:embed="rId2"/>
          <a:srcRect l="0" t="0" r="0" b="-265"/>
          <a:stretch/>
        </p:blipFill>
        <p:spPr>
          <a:xfrm>
            <a:off x="5003640" y="549360"/>
            <a:ext cx="383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40360" y="3212640"/>
            <a:ext cx="374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геев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тьяна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40360" y="4508280"/>
            <a:ext cx="47512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еподаваемый предмет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образительное искусство (ИЗО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ж работ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влеч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шивание, вязани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лет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258920" y="333360"/>
            <a:ext cx="7885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абота выполнена в рамках проекта  повышения квалификации различных категорий работников образования и формирования у них базовой педагогической ИКТ – компетентности по программ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 Информационные технологии в деятельности учителя предметник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oblcit"/>
          <p:cNvPicPr/>
          <p:nvPr/>
        </p:nvPicPr>
        <p:blipFill>
          <a:blip r:embed="rId1"/>
          <a:stretch/>
        </p:blipFill>
        <p:spPr>
          <a:xfrm>
            <a:off x="250920" y="333360"/>
            <a:ext cx="1368360" cy="13683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6"/>
          <p:cNvSpPr/>
          <p:nvPr/>
        </p:nvSpPr>
        <p:spPr>
          <a:xfrm>
            <a:off x="8163720" y="64911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7" descr="SP_A0083"/>
          <p:cNvPicPr/>
          <p:nvPr/>
        </p:nvPicPr>
        <p:blipFill>
          <a:blip r:embed="rId2"/>
          <a:stretch/>
        </p:blipFill>
        <p:spPr>
          <a:xfrm>
            <a:off x="395280" y="2997360"/>
            <a:ext cx="35989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cc"/>
                </a:solidFill>
                <a:latin typeface="Monotype Corsiva"/>
              </a:rPr>
              <a:t>                             </a:t>
            </a:r>
            <a:r>
              <a:rPr b="1" i="1" lang="ru-RU" sz="5400" spc="-1" strike="noStrike">
                <a:solidFill>
                  <a:srgbClr val="ffcc00"/>
                </a:solidFill>
                <a:latin typeface="Monotype Corsiva"/>
              </a:rPr>
              <a:t>Графика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6612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т (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cc00"/>
                </a:solidFill>
                <a:latin typeface="Monotype Corsiva"/>
              </a:rPr>
              <a:t>graph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пишу), вид изобразительного искусства, включающий рисунок и печатные художественные изображения (гравюра, литография и др.), основанные на искусстве рисунка и выполненные карандашом, пером или уг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Monotype Corsiva"/>
              </a:rPr>
              <a:t>Выразительные средства графики</a:t>
            </a:r>
            <a:r>
              <a:rPr b="0" lang="ru-RU" sz="36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— контурная линия, штрих, пятно (иногда цветовое), фон листа, с которым изображение образует контрастное или нюансное  соотношение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                           </a:t>
            </a: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Гравюра                                 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324000" y="5950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cc00"/>
                </a:solidFill>
                <a:latin typeface="Arial"/>
              </a:rPr>
              <a:t>Литограф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2" descr="1"/>
          <p:cNvPicPr/>
          <p:nvPr/>
        </p:nvPicPr>
        <p:blipFill>
          <a:blip r:embed="rId1"/>
          <a:stretch/>
        </p:blipFill>
        <p:spPr>
          <a:xfrm>
            <a:off x="324000" y="260280"/>
            <a:ext cx="3976560" cy="5764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4" descr="1"/>
          <p:cNvPicPr/>
          <p:nvPr/>
        </p:nvPicPr>
        <p:blipFill>
          <a:blip r:embed="rId2"/>
          <a:stretch/>
        </p:blipFill>
        <p:spPr>
          <a:xfrm>
            <a:off x="4788000" y="692280"/>
            <a:ext cx="3976560" cy="57909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5"/>
          <p:cNvSpPr/>
          <p:nvPr/>
        </p:nvSpPr>
        <p:spPr>
          <a:xfrm>
            <a:off x="7827840" y="649116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03240" y="230040"/>
            <a:ext cx="7556400" cy="1470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Тест по изобразительному искусству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50560" y="1628640"/>
            <a:ext cx="87138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Tahoma"/>
              </a:rPr>
              <a:t>Соотнесите  представителей искусства и эпох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. Средние века         а. Э. Неизвест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. Новое время          б. Леонардо да  Винч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.Современность       в. Сальвадор Дали</a:t>
            </a:r>
            <a:r>
              <a:rPr b="0" lang="ru-RU" sz="3200" spc="-1" strike="noStrike">
                <a:solidFill>
                  <a:srgbClr val="72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3456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 Портр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. Натюрмо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. Пейза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Соотнесите  жанр искусства и репродукцию.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919840" y="1556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63880" y="4161600"/>
            <a:ext cx="43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6432480" y="31932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830400" y="41662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3773880" y="249156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433200" y="5012280"/>
            <a:ext cx="7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в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14" descr="1"/>
          <p:cNvPicPr/>
          <p:nvPr/>
        </p:nvPicPr>
        <p:blipFill>
          <a:blip r:embed="rId1"/>
          <a:stretch/>
        </p:blipFill>
        <p:spPr>
          <a:xfrm>
            <a:off x="7164360" y="1413000"/>
            <a:ext cx="1432080" cy="147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5" descr="Рисунок1"/>
          <p:cNvPicPr/>
          <p:nvPr/>
        </p:nvPicPr>
        <p:blipFill>
          <a:blip r:embed="rId2"/>
          <a:stretch/>
        </p:blipFill>
        <p:spPr>
          <a:xfrm>
            <a:off x="7093080" y="3141720"/>
            <a:ext cx="1492200" cy="1485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6" descr="1"/>
          <p:cNvPicPr/>
          <p:nvPr/>
        </p:nvPicPr>
        <p:blipFill>
          <a:blip r:embed="rId3"/>
          <a:stretch/>
        </p:blipFill>
        <p:spPr>
          <a:xfrm>
            <a:off x="7093080" y="4941720"/>
            <a:ext cx="1604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200" spc="-1" strike="noStrike">
                <a:solidFill>
                  <a:srgbClr val="ffcc00"/>
                </a:solidFill>
                <a:latin typeface="Arial"/>
              </a:rPr>
              <a:t>Укажите название репродукции и соотнесите с автором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2651400" y="39945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 flipH="1">
            <a:off x="468360" y="3428280"/>
            <a:ext cx="5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б.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651400" y="3942360"/>
            <a:ext cx="384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41800" y="4941000"/>
            <a:ext cx="6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2619360" y="4025880"/>
            <a:ext cx="39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14"/>
          <p:cNvSpPr/>
          <p:nvPr/>
        </p:nvSpPr>
        <p:spPr>
          <a:xfrm>
            <a:off x="5929920" y="198828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6"/>
          <p:cNvSpPr/>
          <p:nvPr/>
        </p:nvSpPr>
        <p:spPr>
          <a:xfrm>
            <a:off x="4000320" y="2566080"/>
            <a:ext cx="3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7"/>
          <p:cNvSpPr/>
          <p:nvPr/>
        </p:nvSpPr>
        <p:spPr>
          <a:xfrm>
            <a:off x="3998520" y="39852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8"/>
          <p:cNvSpPr/>
          <p:nvPr/>
        </p:nvSpPr>
        <p:spPr>
          <a:xfrm>
            <a:off x="5940360" y="342900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6212520" y="594900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3939480" y="401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2"/>
          <p:cNvSpPr/>
          <p:nvPr/>
        </p:nvSpPr>
        <p:spPr>
          <a:xfrm>
            <a:off x="4430880" y="622944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23" descr="1"/>
          <p:cNvPicPr/>
          <p:nvPr/>
        </p:nvPicPr>
        <p:blipFill>
          <a:blip r:embed="rId1"/>
          <a:stretch/>
        </p:blipFill>
        <p:spPr>
          <a:xfrm>
            <a:off x="1403280" y="1557360"/>
            <a:ext cx="1527120" cy="14526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4" descr="1"/>
          <p:cNvPicPr/>
          <p:nvPr/>
        </p:nvPicPr>
        <p:blipFill>
          <a:blip r:embed="rId2"/>
          <a:stretch/>
        </p:blipFill>
        <p:spPr>
          <a:xfrm>
            <a:off x="1403280" y="3213000"/>
            <a:ext cx="1441440" cy="14446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5" descr="1"/>
          <p:cNvPicPr/>
          <p:nvPr/>
        </p:nvPicPr>
        <p:blipFill>
          <a:blip r:embed="rId3"/>
          <a:stretch/>
        </p:blipFill>
        <p:spPr>
          <a:xfrm>
            <a:off x="1332000" y="4797360"/>
            <a:ext cx="1660320" cy="1590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6" descr="1"/>
          <p:cNvPicPr/>
          <p:nvPr/>
        </p:nvPicPr>
        <p:blipFill>
          <a:blip r:embed="rId4"/>
          <a:stretch/>
        </p:blipFill>
        <p:spPr>
          <a:xfrm>
            <a:off x="6877080" y="1341360"/>
            <a:ext cx="1809720" cy="18018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7" descr="1"/>
          <p:cNvPicPr/>
          <p:nvPr/>
        </p:nvPicPr>
        <p:blipFill>
          <a:blip r:embed="rId5"/>
          <a:srcRect l="0" t="0" r="0" b="-195"/>
          <a:stretch/>
        </p:blipFill>
        <p:spPr>
          <a:xfrm>
            <a:off x="6804000" y="3284640"/>
            <a:ext cx="1944720" cy="13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8" descr="1"/>
          <p:cNvPicPr/>
          <p:nvPr/>
        </p:nvPicPr>
        <p:blipFill>
          <a:blip r:embed="rId6"/>
          <a:stretch/>
        </p:blipFill>
        <p:spPr>
          <a:xfrm>
            <a:off x="6877080" y="4941720"/>
            <a:ext cx="1881000" cy="17431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29"/>
          <p:cNvSpPr/>
          <p:nvPr/>
        </p:nvSpPr>
        <p:spPr>
          <a:xfrm>
            <a:off x="5940360" y="5084640"/>
            <a:ext cx="6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4720" y="290160"/>
            <a:ext cx="8136000" cy="865080"/>
          </a:xfrm>
          <a:prstGeom prst="rect">
            <a:avLst/>
          </a:prstGeom>
          <a:solidFill>
            <a:srgbClr val="3366ff">
              <a:alpha val="1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Monotype Corsiva"/>
              </a:rPr>
              <a:t>Список используемой литератур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991280" cy="4397400"/>
          </a:xfrm>
          <a:prstGeom prst="rect">
            <a:avLst/>
          </a:prstGeom>
          <a:solidFill>
            <a:srgbClr val="0033cc">
              <a:alpha val="37000"/>
            </a:srgbClr>
          </a:solidFill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.Н. Ростовцев, «Методика преподавания изобразительного искусства в школе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Н.М. Сокольникова, « Основы рисунка», 1996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В.С. Кузин, «Изобразительное искусство в школе», 1995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.Г. Дрезнина, «Каждый ребенок – художник», 2002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Т.Н. Вышинская, «Уроки рисования», 1998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megabook.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bat"/>
              </a:rPr>
              <a:t>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Искусство –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  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посредни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    </a:t>
            </a:r>
            <a:r>
              <a:rPr b="1" lang="ru-RU" sz="5400" spc="-1" strike="noStrike">
                <a:solidFill>
                  <a:srgbClr val="ffffff"/>
                </a:solidFill>
                <a:latin typeface="Arbat"/>
              </a:rPr>
              <a:t>того, чего нельзя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</a:t>
            </a: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высказать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Arbat"/>
              </a:rPr>
              <a:t>                          </a:t>
            </a:r>
            <a:r>
              <a:rPr b="0" i="1" lang="ru-RU" sz="4400" spc="-1" strike="noStrike">
                <a:solidFill>
                  <a:srgbClr val="ffffff"/>
                </a:solidFill>
                <a:latin typeface="Arbat"/>
              </a:rPr>
              <a:t>Гет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Monotype Corsiva"/>
              </a:rPr>
              <a:t>Содержание уро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63272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Виды изобразительного  искус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Живоп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вопись и ее жанр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Скульп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Архитект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Графи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bat"/>
              </a:rPr>
              <a:t>   </a:t>
            </a: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иды изобразительного искусства.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18320" cy="5029200"/>
          </a:xfrm>
          <a:prstGeom prst="rect">
            <a:avLst/>
          </a:prstGeom>
          <a:solidFill>
            <a:srgbClr val="0000ff">
              <a:alpha val="1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ам,  конечно, доводилось видеть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рисун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карандашом или углем на бумаг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картины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написанные красками на холсте,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памятни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– гранитные и мраморные, расписные глиняные </a:t>
            </a:r>
            <a:r>
              <a:rPr b="1" i="1" lang="ru-RU" sz="2900" spc="-1" strike="noStrike">
                <a:solidFill>
                  <a:srgbClr val="ccffff"/>
                </a:solidFill>
                <a:latin typeface="Arbat"/>
              </a:rPr>
              <a:t>игрушки</a:t>
            </a: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, здания храмов и музеев – старинные и построенные давно.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4869000"/>
            <a:ext cx="8208720" cy="1503360"/>
          </a:xfrm>
          <a:prstGeom prst="rect">
            <a:avLst/>
          </a:prstGeom>
          <a:solidFill>
            <a:srgbClr val="3366ff">
              <a:alpha val="3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се это – произведения 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искусства различных его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cffff"/>
                </a:solidFill>
                <a:latin typeface="Arbat"/>
              </a:rPr>
              <a:t>видов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Object 48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305160" cy="1054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5" descr="1"/>
          <p:cNvPicPr/>
          <p:nvPr/>
        </p:nvPicPr>
        <p:blipFill>
          <a:blip r:embed="rId2"/>
          <a:stretch/>
        </p:blipFill>
        <p:spPr>
          <a:xfrm>
            <a:off x="900000" y="189000"/>
            <a:ext cx="3543480" cy="4422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7" descr="2"/>
          <p:cNvPicPr/>
          <p:nvPr/>
        </p:nvPicPr>
        <p:blipFill>
          <a:blip r:embed="rId3"/>
          <a:stretch/>
        </p:blipFill>
        <p:spPr>
          <a:xfrm>
            <a:off x="4859280" y="189000"/>
            <a:ext cx="3402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0000"/>
                </a:solidFill>
                <a:latin typeface="Tahoma"/>
              </a:rPr>
              <a:t>                            </a:t>
            </a:r>
            <a:r>
              <a:rPr b="1" lang="ru-RU" sz="5400" spc="-1" strike="noStrike">
                <a:solidFill>
                  <a:srgbClr val="ffcc00"/>
                </a:solidFill>
                <a:latin typeface="Monotype Corsiva"/>
              </a:rPr>
              <a:t>Живопись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вид изобразительного искусства, произведения которого создаются с помощью красок, наносимых на какую-либо поверхность.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Живопись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— важное средство художественного отражения и истолкования действительности, воздействия на мысли и чувства зрите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cc00"/>
                </a:solidFill>
                <a:latin typeface="Monotype Corsiva"/>
              </a:rPr>
              <a:t>Основные технические разновидности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— масляная живопись, живопись водяными красками по штукатурке — сыр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фреска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сухой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lang="ru-RU" sz="3600" spc="-1" strike="noStrike">
                <a:solidFill>
                  <a:srgbClr val="ff9900"/>
                </a:solidFill>
                <a:latin typeface="Tahoma"/>
              </a:rPr>
              <a:t>а секко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),</a:t>
            </a:r>
            <a:r>
              <a:rPr b="0" lang="ru-RU" sz="32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темпера, клеевая живопись, восковая живопись, эмаль, живопись керамическая, силикатными, синтетическими красками, мозаика, витраж; акварель, гуашь, пастел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итраж собора в Шарт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148360" y="5300640"/>
            <a:ext cx="366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Фрес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монастыр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Сан – Мар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2" descr="3"/>
          <p:cNvPicPr/>
          <p:nvPr/>
        </p:nvPicPr>
        <p:blipFill>
          <a:blip r:embed="rId1"/>
          <a:stretch/>
        </p:blipFill>
        <p:spPr>
          <a:xfrm>
            <a:off x="468360" y="1557360"/>
            <a:ext cx="3819600" cy="4876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1"/>
          <p:cNvPicPr/>
          <p:nvPr/>
        </p:nvPicPr>
        <p:blipFill>
          <a:blip r:embed="rId2"/>
          <a:stretch/>
        </p:blipFill>
        <p:spPr>
          <a:xfrm>
            <a:off x="5076720" y="333360"/>
            <a:ext cx="34704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1:14:00Z</dcterms:created>
  <dc:creator>Наташа</dc:creator>
  <dc:description/>
  <dc:language>en-US</dc:language>
  <cp:lastModifiedBy>Name</cp:lastModifiedBy>
  <dcterms:modified xsi:type="dcterms:W3CDTF">2011-02-03T12:41:54Z</dcterms:modified>
  <cp:revision>26</cp:revision>
  <dc:subject/>
  <dc:title>Виды изобразительного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00d0000000000010243000207f6000400038000</vt:lpwstr>
  </property>
</Properties>
</file>